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2E5-37CF-42A4-83CF-B7043682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0E4-E704-4239-8C05-489B3149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6FC-924D-4080-8D21-BCC19EF6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C54-A356-44C7-8FD2-CE1080EE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D91-1EC2-4F55-8AD6-E2B220D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054-1619-4A30-8FEA-CD9D596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BBE-7CF1-477D-9D39-4246C1E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9BB-A9A4-4920-8BA3-B103538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99A-29C2-4B29-9505-EF0A8937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7EA-BA2A-4F70-AA18-EBED430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BAC-7259-40DD-8B50-922B8C2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6CD-D8C1-42DA-9D66-F2B59B1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2A4-4755-48F8-83E3-E14ABB76B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52640" y="3108240"/>
            <a:ext cx="7038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do you spell this colo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80880"/>
            <a:ext cx="160020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57200"/>
            <a:ext cx="2209680" cy="1295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914400"/>
            <a:ext cx="1981080" cy="1905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48320"/>
            <a:ext cx="1066680" cy="1600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648320"/>
            <a:ext cx="2057400" cy="1523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4419720"/>
            <a:ext cx="1600200" cy="2286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4343400"/>
            <a:ext cx="1523880" cy="2514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600200"/>
            <a:ext cx="19810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19280" y="3100320"/>
            <a:ext cx="770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ow you just won the word color game!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029200"/>
            <a:ext cx="221004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4114800"/>
            <a:ext cx="1143000" cy="2286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029200"/>
            <a:ext cx="2057400" cy="1371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990720"/>
            <a:ext cx="259092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0574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990720"/>
            <a:ext cx="2286000" cy="1523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7760" y="3013200"/>
            <a:ext cx="14284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524880" cy="807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5600" y="2825640"/>
            <a:ext cx="215280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52680" y="2362320"/>
            <a:ext cx="28195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760" y="65088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0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7680" y="54514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38320" y="5375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33400" y="803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" y="2479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680" y="4079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48160" y="3317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80360" y="727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85680" y="1793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5800" y="552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80880" y="53341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243828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6477120" y="54100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6934320" y="33526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609480" y="41148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380880" y="25909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0" y="7621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2971800" y="838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6019920" y="838080"/>
            <a:ext cx="1447560" cy="16765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676520"/>
              <a:gd name="textAreaBottom" fmla="*/ 1582920 h 1676520"/>
            </a:gdLst>
            <a:ahLst/>
            <a:rect l="textAreaLeft" t="textAreaTop" r="textAreaRight" b="textAreaBottom"/>
            <a:pathLst>
              <a:path w="21600" h="25016">
                <a:moveTo>
                  <a:pt x="0" y="0"/>
                </a:moveTo>
                <a:lnTo>
                  <a:pt x="21600" y="0"/>
                </a:lnTo>
                <a:lnTo>
                  <a:pt x="21600" y="25016"/>
                </a:lnTo>
                <a:lnTo>
                  <a:pt x="0" y="25016"/>
                </a:lnTo>
                <a:close/>
              </a:path>
              <a:path fill="lightenLess" w="21600" h="250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16">
                <a:moveTo>
                  <a:pt x="21600" y="0"/>
                </a:moveTo>
                <a:lnTo>
                  <a:pt x="21600" y="25016"/>
                </a:lnTo>
                <a:lnTo>
                  <a:pt x="20200" y="23616"/>
                </a:lnTo>
                <a:lnTo>
                  <a:pt x="20200" y="1400"/>
                </a:lnTo>
                <a:close/>
              </a:path>
              <a:path fill="darkenLess" w="21600" h="25016">
                <a:moveTo>
                  <a:pt x="21600" y="25016"/>
                </a:moveTo>
                <a:lnTo>
                  <a:pt x="0" y="25016"/>
                </a:lnTo>
                <a:lnTo>
                  <a:pt x="1400" y="23616"/>
                </a:lnTo>
                <a:lnTo>
                  <a:pt x="20200" y="23616"/>
                </a:lnTo>
                <a:close/>
              </a:path>
              <a:path fill="lighten" w="21600" h="25016">
                <a:moveTo>
                  <a:pt x="0" y="250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1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2590920"/>
            <a:ext cx="3200400" cy="228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" y="5335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858000" y="23623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533520" y="41911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162920" y="4952880"/>
            <a:ext cx="990360" cy="99072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2286000" y="53341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3352680" y="6858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733920" y="2438280"/>
            <a:ext cx="1904760" cy="243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400800" y="68580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304920" y="2362320"/>
            <a:ext cx="1676160" cy="761760"/>
          </a:xfrm>
          <a:custGeom>
            <a:avLst/>
            <a:gdLst>
              <a:gd name="textAreaLeft" fmla="*/ 49320 w 1676160"/>
              <a:gd name="textAreaRight" fmla="*/ 1626840 w 1676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7516" h="21600">
                <a:moveTo>
                  <a:pt x="0" y="0"/>
                </a:moveTo>
                <a:lnTo>
                  <a:pt x="47516" y="0"/>
                </a:lnTo>
                <a:lnTo>
                  <a:pt x="47516" y="21600"/>
                </a:lnTo>
                <a:lnTo>
                  <a:pt x="0" y="21600"/>
                </a:lnTo>
                <a:close/>
              </a:path>
              <a:path fill="lightenLess" w="47516" h="21600">
                <a:moveTo>
                  <a:pt x="0" y="0"/>
                </a:moveTo>
                <a:lnTo>
                  <a:pt x="47516" y="0"/>
                </a:lnTo>
                <a:lnTo>
                  <a:pt x="46116" y="1400"/>
                </a:lnTo>
                <a:lnTo>
                  <a:pt x="1400" y="1400"/>
                </a:lnTo>
                <a:close/>
              </a:path>
              <a:path fill="darken" w="47516" h="21600">
                <a:moveTo>
                  <a:pt x="47516" y="0"/>
                </a:moveTo>
                <a:lnTo>
                  <a:pt x="47516" y="21600"/>
                </a:lnTo>
                <a:lnTo>
                  <a:pt x="46116" y="20200"/>
                </a:lnTo>
                <a:lnTo>
                  <a:pt x="46116" y="1400"/>
                </a:lnTo>
                <a:close/>
              </a:path>
              <a:path fill="darkenLess" w="47516" h="21600">
                <a:moveTo>
                  <a:pt x="4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6" y="20200"/>
                </a:lnTo>
                <a:close/>
              </a:path>
              <a:path fill="lighten" w="4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6781680" y="46483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609480" y="4495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3733920" y="7621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38480" y="2286000"/>
            <a:ext cx="2514600" cy="2514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304920" y="5335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1600200" y="49528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6934320" y="9144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086600" y="4724280"/>
            <a:ext cx="1219320" cy="129564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95640"/>
              <a:gd name="textAreaBottom" fmla="*/ 1216800 h 1295640"/>
            </a:gdLst>
            <a:ahLst/>
            <a:rect l="textAreaLeft" t="textAreaTop" r="textAreaRight" b="textAreaBottom"/>
            <a:pathLst>
              <a:path w="21600" h="22952">
                <a:moveTo>
                  <a:pt x="0" y="0"/>
                </a:moveTo>
                <a:lnTo>
                  <a:pt x="21600" y="0"/>
                </a:lnTo>
                <a:lnTo>
                  <a:pt x="21600" y="22952"/>
                </a:lnTo>
                <a:lnTo>
                  <a:pt x="0" y="22952"/>
                </a:lnTo>
                <a:close/>
              </a:path>
              <a:path fill="lightenLess" w="21600" h="22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2">
                <a:moveTo>
                  <a:pt x="21600" y="0"/>
                </a:moveTo>
                <a:lnTo>
                  <a:pt x="21600" y="22952"/>
                </a:lnTo>
                <a:lnTo>
                  <a:pt x="20200" y="21552"/>
                </a:lnTo>
                <a:lnTo>
                  <a:pt x="20200" y="1400"/>
                </a:lnTo>
                <a:close/>
              </a:path>
              <a:path fill="darkenLess" w="21600" h="22952">
                <a:moveTo>
                  <a:pt x="21600" y="22952"/>
                </a:moveTo>
                <a:lnTo>
                  <a:pt x="0" y="22952"/>
                </a:lnTo>
                <a:lnTo>
                  <a:pt x="1400" y="21552"/>
                </a:lnTo>
                <a:lnTo>
                  <a:pt x="20200" y="21552"/>
                </a:lnTo>
                <a:close/>
              </a:path>
              <a:path fill="lighten" w="21600" h="22952">
                <a:moveTo>
                  <a:pt x="0" y="22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38080" y="2666880"/>
            <a:ext cx="1752840" cy="838440"/>
          </a:xfrm>
          <a:custGeom>
            <a:avLst/>
            <a:gdLst>
              <a:gd name="textAreaLeft" fmla="*/ 54360 w 1752840"/>
              <a:gd name="textAreaRight" fmla="*/ 1698480 w 17528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47" h="21600">
                <a:moveTo>
                  <a:pt x="0" y="0"/>
                </a:moveTo>
                <a:lnTo>
                  <a:pt x="45147" y="0"/>
                </a:lnTo>
                <a:lnTo>
                  <a:pt x="45147" y="21600"/>
                </a:lnTo>
                <a:lnTo>
                  <a:pt x="0" y="21600"/>
                </a:lnTo>
                <a:close/>
              </a:path>
              <a:path fill="lightenLess" w="45147" h="21600">
                <a:moveTo>
                  <a:pt x="0" y="0"/>
                </a:moveTo>
                <a:lnTo>
                  <a:pt x="45147" y="0"/>
                </a:lnTo>
                <a:lnTo>
                  <a:pt x="43747" y="1400"/>
                </a:lnTo>
                <a:lnTo>
                  <a:pt x="1400" y="1400"/>
                </a:lnTo>
                <a:close/>
              </a:path>
              <a:path fill="darken" w="45147" h="21600">
                <a:moveTo>
                  <a:pt x="45147" y="0"/>
                </a:moveTo>
                <a:lnTo>
                  <a:pt x="45147" y="21600"/>
                </a:lnTo>
                <a:lnTo>
                  <a:pt x="43747" y="20200"/>
                </a:lnTo>
                <a:lnTo>
                  <a:pt x="43747" y="1400"/>
                </a:lnTo>
                <a:close/>
              </a:path>
              <a:path fill="darkenLess" w="45147" h="21600">
                <a:moveTo>
                  <a:pt x="45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47" y="20200"/>
                </a:lnTo>
                <a:close/>
              </a:path>
              <a:path fill="lighten" w="45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3733920" y="5335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r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5320" y="1981080"/>
            <a:ext cx="2133360" cy="190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04920" y="358128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2514600" y="495288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6248520" y="38098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304920" y="1219320"/>
            <a:ext cx="1295280" cy="137160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371600"/>
              <a:gd name="textAreaBottom" fmla="*/ 1287720 h 1371600"/>
            </a:gdLst>
            <a:ahLst/>
            <a:rect l="textAreaLeft" t="textAreaTop" r="textAreaRight" b="textAreaBottom"/>
            <a:pathLst>
              <a:path w="21600" h="22872">
                <a:moveTo>
                  <a:pt x="0" y="0"/>
                </a:moveTo>
                <a:lnTo>
                  <a:pt x="21600" y="0"/>
                </a:lnTo>
                <a:lnTo>
                  <a:pt x="21600" y="22872"/>
                </a:lnTo>
                <a:lnTo>
                  <a:pt x="0" y="22872"/>
                </a:lnTo>
                <a:close/>
              </a:path>
              <a:path fill="lightenLess" w="21600" h="228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72">
                <a:moveTo>
                  <a:pt x="21600" y="0"/>
                </a:moveTo>
                <a:lnTo>
                  <a:pt x="21600" y="22872"/>
                </a:lnTo>
                <a:lnTo>
                  <a:pt x="20200" y="21472"/>
                </a:lnTo>
                <a:lnTo>
                  <a:pt x="20200" y="1400"/>
                </a:lnTo>
                <a:close/>
              </a:path>
              <a:path fill="darkenLess" w="21600" h="22872">
                <a:moveTo>
                  <a:pt x="21600" y="22872"/>
                </a:moveTo>
                <a:lnTo>
                  <a:pt x="0" y="22872"/>
                </a:lnTo>
                <a:lnTo>
                  <a:pt x="1400" y="21472"/>
                </a:lnTo>
                <a:lnTo>
                  <a:pt x="20200" y="21472"/>
                </a:lnTo>
                <a:close/>
              </a:path>
              <a:path fill="lighten" w="21600" h="22872">
                <a:moveTo>
                  <a:pt x="0" y="228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5943600" y="68580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934320" y="55627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7600" y="1676520"/>
            <a:ext cx="1600200" cy="2743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172200" y="28954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228600" y="152388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380880" y="41911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3581280" y="571500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5562720" y="45720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6705720" y="49528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505320" y="2438280"/>
            <a:ext cx="2438280" cy="175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2971800" y="48769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457200" y="83808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1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1" y="20200"/>
                </a:lnTo>
                <a:lnTo>
                  <a:pt x="25961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1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60948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162920" y="838080"/>
            <a:ext cx="1600200" cy="838440"/>
          </a:xfrm>
          <a:custGeom>
            <a:avLst/>
            <a:gdLst>
              <a:gd name="textAreaLeft" fmla="*/ 54360 w 1600200"/>
              <a:gd name="textAreaRight" fmla="*/ 1545840 w 16002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1216" h="21600">
                <a:moveTo>
                  <a:pt x="0" y="0"/>
                </a:moveTo>
                <a:lnTo>
                  <a:pt x="41216" y="0"/>
                </a:lnTo>
                <a:lnTo>
                  <a:pt x="41216" y="21600"/>
                </a:lnTo>
                <a:lnTo>
                  <a:pt x="0" y="21600"/>
                </a:lnTo>
                <a:close/>
              </a:path>
              <a:path fill="lightenLess" w="41216" h="21600">
                <a:moveTo>
                  <a:pt x="0" y="0"/>
                </a:moveTo>
                <a:lnTo>
                  <a:pt x="41216" y="0"/>
                </a:lnTo>
                <a:lnTo>
                  <a:pt x="39816" y="1400"/>
                </a:lnTo>
                <a:lnTo>
                  <a:pt x="1400" y="1400"/>
                </a:lnTo>
                <a:close/>
              </a:path>
              <a:path fill="darken" w="41216" h="21600">
                <a:moveTo>
                  <a:pt x="41216" y="0"/>
                </a:moveTo>
                <a:lnTo>
                  <a:pt x="41216" y="21600"/>
                </a:lnTo>
                <a:lnTo>
                  <a:pt x="39816" y="20200"/>
                </a:lnTo>
                <a:lnTo>
                  <a:pt x="39816" y="1400"/>
                </a:lnTo>
                <a:close/>
              </a:path>
              <a:path fill="darkenLess" w="41216" h="21600">
                <a:moveTo>
                  <a:pt x="41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16" y="20200"/>
                </a:lnTo>
                <a:close/>
              </a:path>
              <a:path fill="lighten" w="41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238880" y="3886200"/>
            <a:ext cx="1600200" cy="121932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8345" h="21600">
                <a:moveTo>
                  <a:pt x="0" y="0"/>
                </a:moveTo>
                <a:lnTo>
                  <a:pt x="28345" y="0"/>
                </a:lnTo>
                <a:lnTo>
                  <a:pt x="28345" y="21600"/>
                </a:lnTo>
                <a:lnTo>
                  <a:pt x="0" y="21600"/>
                </a:lnTo>
                <a:close/>
              </a:path>
              <a:path fill="lightenLess" w="28345" h="21600">
                <a:moveTo>
                  <a:pt x="0" y="0"/>
                </a:moveTo>
                <a:lnTo>
                  <a:pt x="28345" y="0"/>
                </a:lnTo>
                <a:lnTo>
                  <a:pt x="26945" y="1400"/>
                </a:lnTo>
                <a:lnTo>
                  <a:pt x="1400" y="1400"/>
                </a:lnTo>
                <a:close/>
              </a:path>
              <a:path fill="darken" w="28345" h="21600">
                <a:moveTo>
                  <a:pt x="28345" y="0"/>
                </a:moveTo>
                <a:lnTo>
                  <a:pt x="28345" y="21600"/>
                </a:lnTo>
                <a:lnTo>
                  <a:pt x="26945" y="20200"/>
                </a:lnTo>
                <a:lnTo>
                  <a:pt x="26945" y="1400"/>
                </a:lnTo>
                <a:close/>
              </a:path>
              <a:path fill="darkenLess" w="28345" h="21600">
                <a:moveTo>
                  <a:pt x="28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5" y="20200"/>
                </a:lnTo>
                <a:close/>
              </a:path>
              <a:path fill="lighten" w="28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3809880" y="914400"/>
            <a:ext cx="2286000" cy="838080"/>
          </a:xfrm>
          <a:custGeom>
            <a:avLst/>
            <a:gdLst>
              <a:gd name="textAreaLeft" fmla="*/ 54000 w 2286000"/>
              <a:gd name="textAreaRight" fmla="*/ 2232000 w 2286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8902" h="21600">
                <a:moveTo>
                  <a:pt x="0" y="0"/>
                </a:moveTo>
                <a:lnTo>
                  <a:pt x="58902" y="0"/>
                </a:lnTo>
                <a:lnTo>
                  <a:pt x="58902" y="21600"/>
                </a:lnTo>
                <a:lnTo>
                  <a:pt x="0" y="21600"/>
                </a:lnTo>
                <a:close/>
              </a:path>
              <a:path fill="lightenLess" w="58902" h="21600">
                <a:moveTo>
                  <a:pt x="0" y="0"/>
                </a:moveTo>
                <a:lnTo>
                  <a:pt x="58902" y="0"/>
                </a:lnTo>
                <a:lnTo>
                  <a:pt x="57502" y="1400"/>
                </a:lnTo>
                <a:lnTo>
                  <a:pt x="1400" y="1400"/>
                </a:lnTo>
                <a:close/>
              </a:path>
              <a:path fill="darken" w="58902" h="21600">
                <a:moveTo>
                  <a:pt x="58902" y="0"/>
                </a:moveTo>
                <a:lnTo>
                  <a:pt x="58902" y="21600"/>
                </a:lnTo>
                <a:lnTo>
                  <a:pt x="57502" y="20200"/>
                </a:lnTo>
                <a:lnTo>
                  <a:pt x="57502" y="1400"/>
                </a:lnTo>
                <a:close/>
              </a:path>
              <a:path fill="darkenLess" w="58902" h="21600">
                <a:moveTo>
                  <a:pt x="5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502" y="20200"/>
                </a:lnTo>
                <a:close/>
              </a:path>
              <a:path fill="lighten" w="5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62320" y="1905120"/>
            <a:ext cx="259056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533520" y="4572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533520" y="41911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772400" y="30481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6248520" y="4572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5334120" y="5257800"/>
            <a:ext cx="2361960" cy="914400"/>
          </a:xfrm>
          <a:custGeom>
            <a:avLst/>
            <a:gdLst>
              <a:gd name="textAreaLeft" fmla="*/ 59040 w 2361960"/>
              <a:gd name="textAreaRight" fmla="*/ 2302920 w 2361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1" h="21600">
                <a:moveTo>
                  <a:pt x="0" y="0"/>
                </a:moveTo>
                <a:lnTo>
                  <a:pt x="55781" y="0"/>
                </a:lnTo>
                <a:lnTo>
                  <a:pt x="55781" y="21600"/>
                </a:lnTo>
                <a:lnTo>
                  <a:pt x="0" y="21600"/>
                </a:lnTo>
                <a:close/>
              </a:path>
              <a:path fill="lightenLess" w="55781" h="21600">
                <a:moveTo>
                  <a:pt x="0" y="0"/>
                </a:moveTo>
                <a:lnTo>
                  <a:pt x="55781" y="0"/>
                </a:lnTo>
                <a:lnTo>
                  <a:pt x="54381" y="1400"/>
                </a:lnTo>
                <a:lnTo>
                  <a:pt x="1400" y="1400"/>
                </a:lnTo>
                <a:close/>
              </a:path>
              <a:path fill="darken" w="55781" h="21600">
                <a:moveTo>
                  <a:pt x="55781" y="0"/>
                </a:moveTo>
                <a:lnTo>
                  <a:pt x="55781" y="21600"/>
                </a:lnTo>
                <a:lnTo>
                  <a:pt x="54381" y="20200"/>
                </a:lnTo>
                <a:lnTo>
                  <a:pt x="54381" y="1400"/>
                </a:lnTo>
                <a:close/>
              </a:path>
              <a:path fill="darkenLess" w="55781" h="21600">
                <a:moveTo>
                  <a:pt x="55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1" y="20200"/>
                </a:lnTo>
                <a:close/>
              </a:path>
              <a:path fill="lighten" w="55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4648320" y="35812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3:27:21Z</dcterms:created>
  <dc:creator>Faye Humbard</dc:creator>
  <dc:description/>
  <dc:language>en-US</dc:language>
  <cp:lastModifiedBy>Faye Humbard</cp:lastModifiedBy>
  <dcterms:modified xsi:type="dcterms:W3CDTF">2000-12-02T14:06:49Z</dcterms:modified>
  <cp:revision>3</cp:revision>
  <dc:subject/>
  <dc:title>PowerPoint Presentation</dc:title>
</cp:coreProperties>
</file>